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2CA8-4FE5-414F-A9BC-1D2A389D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6ED4-DB36-42EF-9E10-77352774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D071-0B3F-45FA-B8D7-8781E06CC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F102-46A9-4529-A35F-E11567AA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59EF-18DD-4705-96B1-8BA06C900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518F-AE50-4275-AAF8-8B1991D2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CFA7-6CBF-4076-B25F-22978E6D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10F4-7D86-48F1-8211-6F380430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1E6C-D24F-4A9E-8056-3E99AD97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3002-08E8-43A2-8323-7149DF3E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9653-8C21-4123-9586-5B97013E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3539-FE46-4B1A-8F84-A16E08D1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09D7-2468-4A92-BE73-6C8FD658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DFC4-AACA-4A2F-8299-6767E49B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000B-5AC8-461D-A343-9CC02FA6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A153-201A-441A-9B36-71600264A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9788-3548-4179-8363-31870BB15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C51F-2BB6-4E89-8658-C3EFFB00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9A61-D35D-455F-93C2-2A56E9B8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A4FA-4898-4B7A-B53D-2EC10768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68CD-87C1-43DA-BEFC-60CACFE0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DD75-CBFB-46AE-97F1-42E0F03F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466A-79DF-453D-8D02-382F0085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951C-A58A-49C4-A009-52FFBFC4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C067-D573-4018-8AEB-1AAB8ADEC29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7474-B4F5-4D45-ADCB-6D8A286C332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0/Evictbonusarmy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8/FDR_in_1933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residentialtimeline.org/html/record.php?id=18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11.3:  Hoover’s Presidency during the Depression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Hoover loses support because of his “actions” during the depres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38080" y="647640"/>
            <a:ext cx="762012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Image:Evictbonusarm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685800"/>
            <a:ext cx="861048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oover’s actions with the Bonus Army = Franklin D. Roosevelt new presid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" descr="Image:FDR in 193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41920" y="1676520"/>
            <a:ext cx="4402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7848720" cy="53514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ooverville N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.  Hoover’s “Actions”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.  “Business as usual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7" name="" descr="Political cartoon regarding stock market specula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76640" y="1905120"/>
            <a:ext cx="506736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.  Hoover Takes Action: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Too little, too late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overnment Projec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oulder/Hoover Dam and roads=________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450960" cy="4648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62120" y="3505320"/>
            <a:ext cx="391320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.  Government “help”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886680" indent="-443160"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ederal Home Loan Bank Act – lowered _____  for homeowners and allowed refinance for farmers.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enefit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88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267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.  Government “help”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.  Reconstruction Finance Corporation (RFC)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295280" indent="-380880">
              <a:spcBef>
                <a:spcPts val="601"/>
              </a:spcBef>
              <a:buClr>
                <a:srgbClr val="ffff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mergency financing to large businesses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295280" indent="-380880">
              <a:spcBef>
                <a:spcPts val="601"/>
              </a:spcBef>
              <a:buClr>
                <a:srgbClr val="ffff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rickle down economic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472464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.  Bonus Army Camp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o were they and what did they want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ant bonus now not in 1945 ($500/$1000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tman Bill reject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at happens next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434340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68160" y="371520"/>
            <a:ext cx="78076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2120" y="519120"/>
            <a:ext cx="761976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0-12-13T16:09:21Z</dcterms:modified>
  <cp:revision>7</cp:revision>
  <dc:subject/>
  <dc:title>PowerPoint Presentation</dc:title>
</cp:coreProperties>
</file>